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BC7-E875-4EEE-9C25-D4ED3B26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E1A-A551-4C0D-83B2-495621A6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000-5925-4A17-BCE2-696E536A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674-EBA9-4ECE-B32B-853DBEE3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E567-B094-48D7-A267-12C1681E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E7A7-FD53-4AE3-8BA3-E86D79AA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21A1-336E-4449-8785-E9D2200B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8EB0-5773-46A3-B377-472BEB95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FAD6-2539-4B33-A857-C1776305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804D-E560-4DD5-8D07-96BE55C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4DE4-D399-46DC-964E-57443A48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F5B-B67B-4E10-98EC-B8AADD39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34F1-643D-4A13-9406-08FDE36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6AD6-A72B-4242-BA9B-F4416E3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C99E-FA8F-41C3-BE50-DEAB7A7B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5B18-6075-40F8-997E-B753BE94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B577-E912-47DC-B975-B347F3E0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7AE-8A23-42FD-89FA-126E59A5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B65-C385-4ED6-AFD6-6A94369F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CBA-CCE2-47F4-9E92-4E2900F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830-154C-432F-8F8D-C08D322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708-6D2E-4AF5-B992-FE42974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B0E-0218-4CE0-9779-BF6DF8B1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0D2-3CE2-4837-B4B8-D107714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6E04-69D2-4FDB-9B30-3C05B36C4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01C-3A6D-4854-B000-F93D61A66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Review of the United Kingdom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5B (Two Class Sess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ve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, David,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’s Chastiseme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ab Schemed For Absalom’s Retur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4:1-2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Returned to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4:25-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’s Conspiracy Against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5: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Fled From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5:13-3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ba Brings Food to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6:1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Rebellion of Absalo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Enters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6:15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nsel of Ahithophel and Husha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7:1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ithophel’s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7: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Moved to Mahanai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7:24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and Israel Defeat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8:1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’s Return to Jerusale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’s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8:9-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ief of the King as It Affected His Peo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1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rcy Shown to Shime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16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Encounter with Mephiboshe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24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Favored Barzillai and Chimha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31-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More Problems For David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fe between Judah and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41-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bellion of Sheb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20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ba Is Slain By the People of Ab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20:14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rong to the Gibeonites Aveng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21:1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 Again Angers God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Numbers Israel and Juda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4:1-9; 1 Chron. 21:1-22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Punishes Davi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4:10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Last Day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:1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Solomon - The Third King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nijah’s Desire to Be King Foi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:5-3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Made K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1:32-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Charge to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1-9; 1 Chron. 22:2-23:1;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Chron. 28:11-2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i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10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Reign Begins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nijah’s Unusual Request Resulted His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13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ghteous Judgment of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26-4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athar Removed From the Priesth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ab Was Put to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mei Was Put to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Wisdom and Prosperity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Married Pharaoh’s Daugh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3: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vah Appears to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3:3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omon Requested Wis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Wisdom and W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ng Life: Condi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Women and One Bab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3:16-2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Reig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osperous Kingdo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4:1-3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Hiram Provided Materials for the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5:1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ilding of the Magnificent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6:1-38; 2 Chron. 2:5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Built Other Buildings and Brought Furnishings into the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7:1-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Temple Dedicated To God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Assem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8:1-2; 2 Chron. 5:2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Brought into the Holy Pla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8:3-9; 2 Chron. 5:4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dication of the Temple by Solomon, His Prayer and Sacrific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8:10-53; 2 Chron. 5:11-6: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Takes Possession of His Hou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9:1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 Anointed King over Judah—Two Rival Kingdoms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nointed King of Judah in Hebr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1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Thanks to the Men of Jabesh-Gile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5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val Kingdom of Ish-boshe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8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er Defeated, But He Killed Asah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12-3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Riches And Fame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Glo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9:10-2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een of Sheba Visited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0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Began His Trading Ventures and Started His Nav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0:14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High Point in Israel’s History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ad blessed them grea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 was on all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gnificent temple was fi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were serving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ritory was at it’s largest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rich beyond compreh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ere prosperous and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the most powerful nation at th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44792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Downfall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Had 700 Wives and 300 Concubin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1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Was Turned to Idolatr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Anger Against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9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saries Arose Against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14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Adversaries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Chose Jeroboam, son of an Ephrathite, to Rule Over 10 Trib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26-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tried to kill Jeroboa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fled to Egypt until Solomon d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Di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1-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’s Son, Rehoboam, to Rule Over Jud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Events Leading to the Uniting of Judah and Israel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er and Ishbosheth Quarr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er’s Desertion to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:12-2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ab Killed Abn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:22-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bosheth Is Killed and David Killed His Murder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4: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Events Leading to the Uniting of Judah and Israel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nointed King Over All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1-5; 1 Chron. 11:1-3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:23-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usalem Captured and Made His Cap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6-10; 1 Chron. 11:4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am, King of Tyre, Built David’s Hou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1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efeated the Philistin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1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Ark of God Brought to Jerusale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Was Moved From Kirjath-Jeari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1-5; 1 Chron. 13:1-6; 15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zzah: His Error and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6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in the House of Obed-Edo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10-11; 1 Chron. 13:11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Brought to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12-19; 1 Chron. 15:2-16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l’s Reproach and David’s Repl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20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God’s Promise and Covena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Desire to Build a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7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Covenant with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7:12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ssianic Prophecy of This Promise to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in the Presence of Jehov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7:18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 Extends His Kingdo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Was Victorious Over All His Enemi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8:1-18; 1 Chron. 18:1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Kindness to Mephiboshe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9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efeated the Ammonites and the Syr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0:1-19; 1 Chron. 19:1-1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Great Sin With Bathshe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1:1-2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Repentance and Chastiseme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, Through Nathan the Prophet, Rebuked Dav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2:1-12, 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word will not depart his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l will come upon his househ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wives will be laid with in 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ild will d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Confession and Repent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2:13; Psalm 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’s Chastiseme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Child Died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2:15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Born to Bathshe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non’s Sin With Tama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3:1-1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’s Reveng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3:20-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Fled to Geshu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4-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01:24:31Z</dcterms:created>
  <dc:creator>Don Vines</dc:creator>
  <dc:description/>
  <dc:language>en-US</dc:language>
  <cp:lastModifiedBy>Frank D Vines</cp:lastModifiedBy>
  <dcterms:modified xsi:type="dcterms:W3CDTF">2005-08-28T13:22:36Z</dcterms:modified>
  <cp:revision>36</cp:revision>
  <dc:subject/>
  <dc:title>No Slide Title</dc:title>
</cp:coreProperties>
</file>